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4F3-EAC3-4FE8-812A-DE0831D4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7CF0-BFBE-4994-A098-EDC61F01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5132-5025-49B5-AAEC-9447529A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D69A-1191-49B0-B243-91BB9BA29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882C-535F-4B9E-9FEF-E127623B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B38E-70FC-4CCF-BC00-0E682C5F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1AAD-13C8-4C89-B8DF-51D80D280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A4A-4D3A-4B3A-BEA4-36FED18D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1B63-0200-440B-953D-89CD1839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D07-A148-4616-B2AD-FBE6CB71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F9A-2ADB-4831-8BC8-8A8849A90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6BF-20BF-40A2-85F3-616E5202E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609-1966-4D4F-B3BF-3AC907577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E32-7EEF-413A-9185-11FAE3E1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F4C2-361F-4C78-B1C4-0031029E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898-C03E-4230-B713-0C9C8751B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FFC0-F921-4408-8D5B-6BB8C60C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613-C5F9-480A-B68A-EF38F929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3F6-8B95-46EA-8219-DF2644E10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69C-F910-406F-869B-D09CA69F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759-8984-4716-8E29-3ABD9397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95F6-B3C5-4F83-B53B-35477A15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CF4B-7FC8-407C-B990-04E4F47A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92C-E23E-43A8-B3C9-70AA19D4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6B0-9091-4DBF-B8C2-60450A1A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6DD-E289-4E26-900F-A540B71E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F08-B078-481E-9E04-4E6BC478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3F34-2ACA-40D4-A211-50900D77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DC5-B0F3-41FC-8257-4E1D548D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9F7-9D75-4650-BB87-66E5DE78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1B0-1AD5-4A0D-AA8F-BA8A5DD1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D8D8-5857-4AA6-9E61-57FAF7CC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D38-7E6C-42CF-B195-42855231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DB78-1D7E-4E1C-B2C6-53252965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0AD-A622-4E1B-B824-F2529A60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8AC-629B-470B-8A63-4B3C6D6D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00BB-FF68-41D3-966A-069859704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48C-839E-4F52-B685-39837EF3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D252-3C7D-4412-BDC5-6786944C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19F-8D83-4A2D-9CD9-74ECB6EC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8FAF-F8A3-494C-ADCE-5C724E81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3557-5E47-4338-A28A-D90E4190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473-C3EB-49AD-B404-8A893237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6837-3339-4924-B5DA-AF11C5F2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CC9-0A4C-494D-8E67-F1039803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281E-73BC-40A4-BB4B-1A6B721B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9FAD-F18B-4D51-8E97-2C5445AB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115-8213-4A89-975E-7D354A2D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D38-BFBC-40CB-8A34-31F512EAA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226-5D37-43CC-8C81-8464A05F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41E-A346-4228-8675-CF3A1483D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D91F-DC2A-4393-967B-850887FA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C98-C3B5-4B4F-A353-6BB369C3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319-1DD7-485B-BA1A-6D91DD4C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9D6-13CC-4D2E-BDBB-17DB07F5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B02-07CE-43D0-A85A-48CE7DE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CE6-1BF4-484D-8914-A4AF0C16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3A2-4818-4002-B2A2-9A3D0AB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87F-8641-4C91-AFBF-4CCF253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5B9-0C55-41AE-AFCF-3D2158CA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90D-5EBE-4264-A77B-0FED927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B79-CD73-49BB-B181-BCAA925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8EB-C57D-4DB8-9A3B-A03D02A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9E7-2E7E-4673-A5C6-442A9AF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3F0-28AB-45A2-973B-0B82B7B20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l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on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very first form of Democracy and how did it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League of Iroquois Nations/Five Tribes; the settled disputes peacefully with representatives from each tri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the original colonists leave England and the King’s strict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Religious Pers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colonists first settle and when(year/dat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Jamestown, Virginia in 160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conditions in Plymouth, Mass. that the Colonists had in 162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ountainous land, rocky and bad soil, cold and short growing seas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first Europeans in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Dutch and the Swe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two main Native American Tribes in Pennsylvania when the Colonists arri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rld famous custom did the Swedes introdu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aint Nicholas, or present day Santa Clau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4 major States that made up the original Mid Atlantic Colon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laware, Pennsylvania, New York, and New Jerse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ree reasons why the colonists moved south to the Mid-Atlantic Colonies from New England/m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better soil, warmer climate, better land for farming (no mountains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hub of trading and commerce in Pennsylvan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rt of Philadelphia was located on the Delaware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e first settlers in the Mid-Atlantic Colonies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ngland, France, Spain. Sweden, and the Dutch from Hol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Algonquins and Iroquo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wo things of importance did the Dutch leave the colo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how to build log cabins and introducing cow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William Penn aquire his 27 million acres in North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ebt The King owed his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Pennsylvania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nn’s Wo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the Quakers belie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were non-violent and did not believe in war; they believed everyone wa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“Holy Experiment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n’s ideas for a new colony in North America with Quaker belief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Longho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hree main ideals did Penn want for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eligious freedom; everyone equal rich or poor; and voice in the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the Quakers first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“The Society of Friend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“The Walking treaty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a contract for land between the Iroquois and William Penn’s fami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an Indentured Serv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nist who could not afford transportation to North America and had to work for 7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was Pennsylvania so divers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one was welcome no matter what race, color, or cultu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Multi-Family dwellings for 10 to 12 Iroquois famil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ain the Pennsylvania Dutch’s Hex sig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colorful designs painted on barns, because they did not believe in putting colorful objects in their hom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ng without a money system was called ………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bar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d the earliest Native Americans travel across to get away from the Ice Age in Europe and Asia and follow their food/g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Bering Ice B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2-11-12T21:20:03Z</dcterms:modified>
  <cp:revision>62</cp:revision>
  <dc:subject/>
  <dc:title>No Slide Title</dc:title>
</cp:coreProperties>
</file>